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A5DD-F8D1-4A52-B0ED-235CF8F6FA0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3754B-4BD3-4056-B78A-58A40F989A4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197F6-2ECD-45A9-9B9A-8FAD34D5FEF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B9FB8-D5A0-4EBB-AB72-8713751739F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1941F-6894-456F-9177-A91E2CD0561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3F067-7D13-4C90-9A6F-F8C13A4B179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11D0-B2D6-4A80-A7A4-1DDFCDED6AD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ACECE-B933-40A7-B4F3-C1005E6C94C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2.3</a:t>
            </a:r>
            <a:r>
              <a:rPr b="0" lang="zh-CN" sz="1200" spc="-1" strike="noStrike">
                <a:solidFill>
                  <a:srgbClr val="000000"/>
                </a:solidFill>
                <a:latin typeface="Calibri"/>
                <a:ea typeface="宋体"/>
              </a:rPr>
              <a:t>小标题对齐</a:t>
            </a:r>
            <a:endParaRPr b="0" lang="en-US" sz="1200" spc="-1" strike="noStrike">
              <a:solidFill>
                <a:srgbClr val="000000"/>
              </a:solidFill>
              <a:latin typeface="Calibri"/>
            </a:endParaRPr>
          </a:p>
        </p:txBody>
      </p:sp>
      <p:sp>
        <p:nvSpPr>
          <p:cNvPr id="7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5060E-84EB-4268-B94D-240B0798B4E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80506-758B-49C0-B8F5-7168801FB58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E4896-CE91-4C3C-AA74-14072D076B9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2BA5E-B329-40E0-80A3-2EA3F4CF11E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2AED-6065-4111-882E-9CC8FFBECB2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D38BD-96A6-402A-A6D7-2AFC920BAA3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336EED-ACCD-4CC7-A262-94A243067D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6F8873-8945-461B-AA00-F804D24B2B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97B77D3-CAC3-47C8-AA7E-8CECFEF196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D5FF0EF-30DD-4673-8911-8A56554E74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94691D-28DD-4D4B-BD89-4ECCD839FE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9B00F5-D1E2-4DAF-870C-51098A6E3C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FC200A-806F-4E1F-B109-C58FD6B52F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7A5EF6A-E47B-45CD-8388-80AC074BD8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935CD21-19B7-40F9-9C51-E2B7754CFA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4DAEFF-3C76-446B-B403-0E5681EB47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F9169D-E0B8-41FD-981B-D67E3CBCFC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DAE095-B423-4E34-999A-8B1EB73E86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4E170-D335-446F-B219-BECD4CE5CFF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内分泌系统疾病患者</a:t>
            </a:r>
            <a:br>
              <a:rPr sz="4000"/>
            </a:br>
            <a:r>
              <a:rPr b="1" lang="zh-CN" sz="4000" spc="-1" strike="noStrike">
                <a:solidFill>
                  <a:srgbClr val="ffffff"/>
                </a:solidFill>
                <a:latin typeface="黑体"/>
                <a:ea typeface="黑体"/>
              </a:rPr>
              <a:t>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疲乏</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腺垂体功能减退、甲状腺高代谢状态等可导致患者疲乏无力。常见于肾上腺功能减退、甲状腺功能亢进症和减退症、库欣综合征、肥胖症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C1A7F-73F5-40F1-9ED1-654E0B811ED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六）高血压</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血压为内分泌系统常见伴随症状，常见于嗜铬细胞瘤、原发性醛固酮增多症、库欣综合征及部分糖尿病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3269B-9109-4A30-8DCE-7F833DA16EB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七）神经、精神改变</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常多言好动、失眠、紧张不安、焦躁易怒、注意力不集中；库欣综合征患者易激动、失眠、妄想、烦躁，严重者可发生偏执狂。</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DF222-7E2A-4C9E-87EE-B5939EAD076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八）其他</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痛是代谢性骨病的常见症状，严重者可发生自发性骨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质疏松症多见于糖尿病、甲状腺功能亢进症、库欣综合征和催乳素瘤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无力可见于库欣综合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视网膜病变可导致患者视觉障碍甚至失明；糖尿病神经病变可导致患者感觉异常和肌萎缩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964EF-1858-47FB-B2C6-175AA1A041C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血糖监测</a:t>
            </a:r>
            <a:endParaRPr b="0" lang="en-US" sz="3200" spc="-1" strike="noStrike">
              <a:solidFill>
                <a:srgbClr val="ffffff"/>
              </a:solidFill>
              <a:latin typeface="Verdana"/>
            </a:endParaRPr>
          </a:p>
        </p:txBody>
      </p:sp>
      <p:sp>
        <p:nvSpPr>
          <p:cNvPr id="15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结果判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注意事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E8380-157A-49C5-91D8-15263432344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目的</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血糖监测是目前诊断糖尿病、判断糖尿病病情和控制程度的主要指标，也是临床上其他原因导致血糖变化患者的重要监测手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以帮助患者及医护人员随时发现病情变化，对患者的运动、饮食、生活规律以及合理用药都具有重要的指导意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A7D17-51EC-4BF4-9E6C-0474E950493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原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生化分析仪多在医院检验科使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速血糖检测仪使用广泛，原理有电化学法和光反射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动态血糖监测系统作为一种新的血糖监测手段，在我国也逐渐展开应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9C5AE-3D14-4F6E-9308-351433043D1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采血时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F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餐后</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血糖（</a:t>
            </a:r>
            <a:r>
              <a:rPr b="1" lang="en-US" sz="2800" spc="-1" strike="noStrike">
                <a:solidFill>
                  <a:srgbClr val="000000"/>
                </a:solidFill>
                <a:latin typeface="宋体"/>
                <a:ea typeface="宋体"/>
              </a:rPr>
              <a:t>2hP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口服葡萄糖耐量试验（</a:t>
            </a:r>
            <a:r>
              <a:rPr b="1" lang="en-US" sz="2800" spc="-1" strike="noStrike">
                <a:solidFill>
                  <a:srgbClr val="000000"/>
                </a:solidFill>
                <a:latin typeface="宋体"/>
                <a:ea typeface="宋体"/>
              </a:rPr>
              <a:t>OGT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前血糖（</a:t>
            </a:r>
            <a:r>
              <a:rPr b="1" lang="en-US" sz="2800" spc="-1" strike="noStrike">
                <a:solidFill>
                  <a:srgbClr val="000000"/>
                </a:solidFill>
                <a:latin typeface="宋体"/>
                <a:ea typeface="宋体"/>
              </a:rPr>
              <a:t>Glucose at bedtime</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RB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922E8-6A9F-4DD6-A8BC-22CB4905FD2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快速血糖检测仪使用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核对解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采血前准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血和读取血糖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采血后整理</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92F3E-E19E-46FA-86CF-72FA9CBF0CE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3" name="图片 1" descr="ziwoxuetangjianci00000000"/>
          <p:cNvPicPr/>
          <p:nvPr/>
        </p:nvPicPr>
        <p:blipFill>
          <a:blip r:embed="rId1"/>
          <a:stretch/>
        </p:blipFill>
        <p:spPr>
          <a:xfrm>
            <a:off x="5651640" y="3213000"/>
            <a:ext cx="3235320" cy="27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6"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660C-4D54-48EC-866B-71D9CE943D5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7" name="Picture 8" descr=""/>
          <p:cNvPicPr/>
          <p:nvPr/>
        </p:nvPicPr>
        <p:blipFill>
          <a:blip r:embed="rId1"/>
          <a:stretch/>
        </p:blipFill>
        <p:spPr>
          <a:xfrm>
            <a:off x="684360" y="2349360"/>
            <a:ext cx="777528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应激性高血糖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0"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66A2D-73AC-4926-84EF-076224EC743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81" name="Picture 7" descr=""/>
          <p:cNvPicPr/>
          <p:nvPr/>
        </p:nvPicPr>
        <p:blipFill>
          <a:blip r:embed="rId1"/>
          <a:stretch/>
        </p:blipFill>
        <p:spPr>
          <a:xfrm>
            <a:off x="900000" y="2637000"/>
            <a:ext cx="7488360" cy="375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需要长期监测血糖的患者，应注意采血部位的轮换，教会患者自我监测血糖的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确认血糖仪的型号与试纸型号一致、监测血糖的时间与医嘱一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避免试纸受潮、污染，由试纸瓶中取出后，应迅速将瓶盖旋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采血前应使用乙醇消毒采血部位，待干后再进行采血，避免使用安尔碘进行消毒。</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05C3-4E9E-42B6-A4F7-20E81FEB214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采血点宜选择手指指腹外侧，疼痛较小且采血量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避免用力挤压采血点，避免在水肿部位采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采血量应覆盖试纸的整个测试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出现血糖异常结果时应重复检测一次，并通知医生采取相应措施；必要时复查静脉生化血糖。</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C81BA-6DCB-4FC5-9B80-20D91FE52E0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94F86-5E84-43EA-A25B-8A54322AE5E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应激性高血糖患者的护理</a:t>
            </a:r>
            <a:endParaRPr b="0" lang="en-US" sz="3600" spc="-1" strike="noStrike">
              <a:solidFill>
                <a:srgbClr val="ffffff"/>
              </a:solidFill>
              <a:latin typeface="Verdana"/>
            </a:endParaRPr>
          </a:p>
        </p:txBody>
      </p:sp>
      <p:sp>
        <p:nvSpPr>
          <p:cNvPr id="19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激性高血糖</a:t>
            </a:r>
            <a:r>
              <a:rPr b="1" lang="en-US" sz="2400" spc="-1" strike="noStrike">
                <a:solidFill>
                  <a:srgbClr val="000000"/>
                </a:solidFill>
                <a:latin typeface="宋体"/>
                <a:ea typeface="宋体"/>
              </a:rPr>
              <a:t>(stress-induced-hyperglycemi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HG)</a:t>
            </a:r>
            <a:r>
              <a:rPr b="1" lang="zh-CN" sz="2400" spc="-1" strike="noStrike">
                <a:solidFill>
                  <a:srgbClr val="000000"/>
                </a:solidFill>
                <a:latin typeface="宋体"/>
                <a:ea typeface="宋体"/>
              </a:rPr>
              <a:t>通常指先前无糖尿病证据的危重患者，如高热、急性心肌梗死、脑出血或脑血栓形成、大手术、骨折、重度烧伤等，处于急性应激状态时暂时出现的高血糖、高尿糖以及糖耐量减低的病理现象。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9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脏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193"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
        <p:nvSpPr>
          <p:cNvPr id="194" name="剪去单角的矩形 6"/>
          <p:cNvSpPr/>
          <p:nvPr/>
        </p:nvSpPr>
        <p:spPr>
          <a:xfrm>
            <a:off x="357120" y="5445000"/>
            <a:ext cx="8001000" cy="9367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rPr>
              <a:t>问题：该患者血糖升高的可能原因是什么？如何对其进行护理评估？</a:t>
            </a:r>
            <a:r>
              <a:rPr b="0" lang="zh-CN" sz="2800" spc="-1" strike="noStrike">
                <a:solidFill>
                  <a:srgbClr val="fe230c"/>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护 理 评 估</a:t>
            </a:r>
            <a:r>
              <a:rPr b="0" lang="zh-CN" sz="3200" spc="-1" strike="noStrike">
                <a:solidFill>
                  <a:srgbClr val="ffffff"/>
                </a:solidFill>
                <a:latin typeface="Verdana"/>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52162-129B-45EF-B3D5-D44FC3FD807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表现为原发病伴发应激性高血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原发病为基础危重症，如严重创伤、脑血管意外、急性心肌梗死、感染性休克、手术、烧伤等；同时伴有血糖增高导致的代谢紊乱和急性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0CE43-9493-4A1B-A101-29A2A91F0C4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20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代谢紊乱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尿量增多（渗透性利尿）、口渴、黏膜干燥并伴发多饮及体重减轻。可出现水、电解质平衡紊乱，机体分解代谢增加，负氮平衡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性并发症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高血糖高渗状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低血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E59C-9D4E-4156-A12F-3010AC1C2C9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20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检查  空腹血糖≥</a:t>
            </a:r>
            <a:r>
              <a:rPr b="1" lang="en-US" sz="2800" spc="-1" strike="noStrike">
                <a:solidFill>
                  <a:srgbClr val="000000"/>
                </a:solidFill>
                <a:latin typeface="宋体"/>
                <a:ea typeface="宋体"/>
              </a:rPr>
              <a:t>6.9mmol/L</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11.1mmol/L</a:t>
            </a:r>
            <a:r>
              <a:rPr b="1" lang="zh-CN" sz="2800" spc="-1" strike="noStrike">
                <a:solidFill>
                  <a:srgbClr val="000000"/>
                </a:solidFill>
                <a:latin typeface="宋体"/>
                <a:ea typeface="宋体"/>
              </a:rPr>
              <a:t>。血糖升高是诊断应激性高血糖的主要依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  尿糖强阳性、尿量显著增多、血尿素氮和肌酐偏高、血浆渗透压增高、电解质及酸碱平衡紊乱</a:t>
            </a:r>
            <a:endParaRPr b="1" lang="en-US" sz="2800" spc="-1" strike="noStrike">
              <a:solidFill>
                <a:srgbClr val="8ac8de"/>
              </a:solidFill>
              <a:latin typeface="Verdana"/>
            </a:endParaRPr>
          </a:p>
        </p:txBody>
      </p:sp>
      <p:pic>
        <p:nvPicPr>
          <p:cNvPr id="206" name="Picture 4" descr="图片19"/>
          <p:cNvPicPr/>
          <p:nvPr/>
        </p:nvPicPr>
        <p:blipFill>
          <a:blip r:embed="rId1"/>
          <a:stretch/>
        </p:blipFill>
        <p:spPr>
          <a:xfrm>
            <a:off x="6732720" y="422100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208"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尿病病史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源性儿茶酚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老年、肥胖、低温、低氧血症、肝硬变等</a:t>
            </a: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内分泌系统疾病患者的健康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血糖采集时机及意义并分析血糖监测的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应激性高血糖的临床表现和治疗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能识别应激性高血糖患者健康问题并制定护理计划</a:t>
            </a: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F4CE0-819C-429A-B1F5-78E5553F2B0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ffffff"/>
              </a:solidFill>
              <a:latin typeface="Verdana"/>
            </a:endParaRPr>
          </a:p>
        </p:txBody>
      </p:sp>
      <p:sp>
        <p:nvSpPr>
          <p:cNvPr id="211"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激性高血糖患者多为严重疾病或重大创伤手术者，病情较重，患者容易产生焦虑、烦躁、恐惧等情绪。另外，医疗费用多、病情凶险，家属也多存在哀伤、焦虑、对死亡的不确定感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了解患者及家属有关疾病的知识掌握状况、对疾病的反应及适应水平、家庭经济与社会支持情况等，真正协助他们度过危机。</a:t>
            </a: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C9BFF-D70F-4057-B8E6-E2EFB24AE5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1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积极治疗原发病</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1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182" y="2736"/>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危重状态下的高血糖多为一过性，常随应激原解除及胰岛素拮抗的改善逐渐缓解</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因此积极治疗原发病，解除应激源是重要的治疗原则。</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如控制感染、重症胰腺炎根治、脏器穿孔修补、骨折复位固定等。</a:t>
            </a:r>
            <a:r>
              <a:rPr b="0" lang="zh-CN" sz="2800" spc="-1" strike="noStrike">
                <a:solidFill>
                  <a:srgbClr val="046ca6"/>
                </a:solidFill>
                <a:latin typeface="宋体"/>
              </a:rPr>
              <a:t> </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434C0-A570-4324-B2C3-3D260406EB3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补液</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7250" y="6515"/>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患者多有脱水症状，需积极补液治疗。</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具体补液方案应依据患者病情，并参考血压、中心静脉压、尿量及血浆渗透压浓度等动态监测值进行调整。</a:t>
            </a:r>
            <a:r>
              <a:rPr b="0" lang="zh-CN" sz="2800" spc="-1" strike="noStrike">
                <a:solidFill>
                  <a:srgbClr val="0000ff"/>
                </a:solidFill>
                <a:latin typeface="宋体"/>
              </a:rPr>
              <a:t> </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6081-8ED7-4440-AD85-BA86060DDCD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胰岛素强化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545" y="9833"/>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持续胰岛素静脉输注是控制和维持危重患者血糖的理想治疗方案。</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采用短效胰岛素溶入</a:t>
            </a:r>
            <a:r>
              <a:rPr b="1" lang="en-US" sz="2800" spc="-1" strike="noStrike">
                <a:solidFill>
                  <a:srgbClr val="0000ff"/>
                </a:solidFill>
                <a:latin typeface="宋体"/>
              </a:rPr>
              <a:t>0.9%</a:t>
            </a:r>
            <a:r>
              <a:rPr b="1" lang="zh-CN" sz="2800" spc="-1" strike="noStrike">
                <a:solidFill>
                  <a:srgbClr val="0000ff"/>
                </a:solidFill>
                <a:latin typeface="宋体"/>
              </a:rPr>
              <a:t>氯化钠溶液中配成</a:t>
            </a:r>
            <a:r>
              <a:rPr b="1" lang="en-US" sz="2800" spc="-1" strike="noStrike">
                <a:solidFill>
                  <a:srgbClr val="0000ff"/>
                </a:solidFill>
                <a:latin typeface="宋体"/>
              </a:rPr>
              <a:t>1U/ml</a:t>
            </a:r>
            <a:r>
              <a:rPr b="1" lang="zh-CN" sz="2800" spc="-1" strike="noStrike">
                <a:solidFill>
                  <a:srgbClr val="0000ff"/>
                </a:solidFill>
                <a:latin typeface="宋体"/>
              </a:rPr>
              <a:t>浓度的溶液，使用微量注射泵持续泵入初始泵入速度一般为</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5U/h</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C8F5-320D-446E-8AEB-F93E86821EF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持续监测血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696" y="13619"/>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胰岛素强化治疗和整个危重病治疗过程中必须按需严密监测血糖变化，维持血糖的合理稳定，防止低血糖和脑水肿的发生。</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目标血糖以</a:t>
            </a:r>
            <a:r>
              <a:rPr b="1" lang="en-US" sz="2800" spc="-1" strike="noStrike">
                <a:solidFill>
                  <a:srgbClr val="0000ff"/>
                </a:solidFill>
                <a:latin typeface="宋体"/>
              </a:rPr>
              <a:t>8.0</a:t>
            </a:r>
            <a:r>
              <a:rPr b="1" lang="zh-CN" sz="2800" spc="-1" strike="noStrike">
                <a:solidFill>
                  <a:srgbClr val="0000ff"/>
                </a:solidFill>
                <a:latin typeface="宋体"/>
              </a:rPr>
              <a:t>～</a:t>
            </a:r>
            <a:r>
              <a:rPr b="1" lang="en-US" sz="2800" spc="-1" strike="noStrike">
                <a:solidFill>
                  <a:srgbClr val="0000ff"/>
                </a:solidFill>
                <a:latin typeface="宋体"/>
              </a:rPr>
              <a:t>10.0mmol/L</a:t>
            </a:r>
            <a:r>
              <a:rPr b="1" lang="zh-CN" sz="2800" spc="-1" strike="noStrike">
                <a:solidFill>
                  <a:srgbClr val="0000ff"/>
                </a:solidFill>
                <a:latin typeface="宋体"/>
              </a:rPr>
              <a:t>为宜。</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5E33D-10D6-4B61-BF1F-EBDB11556D1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966" y="17118"/>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对应激性高血糖患者，应降低非蛋白质热量中的葡萄糖补充，以防其影响血糖水平。</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情况下，葡萄糖的输入量应控制在≤</a:t>
            </a:r>
            <a:r>
              <a:rPr b="1" lang="en-US" sz="2800" spc="-1" strike="noStrike">
                <a:solidFill>
                  <a:srgbClr val="0000ff"/>
                </a:solidFill>
                <a:latin typeface="宋体"/>
              </a:rPr>
              <a:t>200g/d</a:t>
            </a:r>
            <a:r>
              <a:rPr b="1" lang="zh-CN" sz="2800" spc="-1" strike="noStrike">
                <a:solidFill>
                  <a:srgbClr val="0000ff"/>
                </a:solidFill>
                <a:latin typeface="宋体"/>
              </a:rPr>
              <a:t>。</a:t>
            </a:r>
            <a:endParaRPr b="0" lang="en-US" sz="2800" spc="-1" strike="noStrike">
              <a:solidFill>
                <a:srgbClr val="046ca6"/>
              </a:solidFill>
              <a:latin typeface="Arial"/>
            </a:endParaRPr>
          </a:p>
          <a:p>
            <a:pPr marL="343080" indent="-343080">
              <a:lnSpc>
                <a:spcPct val="120000"/>
              </a:lnSpc>
              <a:spcBef>
                <a:spcPts val="45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时提倡允许性低热量营养支持。</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23E9B-A794-4C52-B72B-2C8C83844CA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600" spc="-1" strike="noStrike">
                <a:solidFill>
                  <a:srgbClr val="ffffff"/>
                </a:solidFill>
                <a:latin typeface="Verdana"/>
                <a:ea typeface="宋体"/>
              </a:rPr>
              <a:t>常见护理诊断</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问题</a:t>
            </a:r>
            <a:endParaRPr b="0" lang="en-US" sz="3600" spc="-1" strike="noStrike">
              <a:solidFill>
                <a:srgbClr val="ffffff"/>
              </a:solidFill>
              <a:latin typeface="Verdana"/>
            </a:endParaRPr>
          </a:p>
        </p:txBody>
      </p:sp>
      <p:sp>
        <p:nvSpPr>
          <p:cNvPr id="240" name="PlaceHolder 2"/>
          <p:cNvSpPr>
            <a:spLocks noGrp="1"/>
          </p:cNvSpPr>
          <p:nvPr>
            <p:ph/>
          </p:nvPr>
        </p:nvSpPr>
        <p:spPr>
          <a:xfrm>
            <a:off x="250560" y="1933200"/>
            <a:ext cx="8893080" cy="4924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紊乱  与糖代谢紊乱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体液不足的危险  与多尿、脱水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  感染、低血糖昏迷、高渗性昏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焦虑  与血糖紊乱、疾病重、预后不良、担心并发症等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13733-FF33-4E3E-80EC-B783451566E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3" name="Group 4"/>
          <p:cNvGrpSpPr/>
          <p:nvPr/>
        </p:nvGrpSpPr>
        <p:grpSpPr>
          <a:xfrm>
            <a:off x="395280" y="1035000"/>
            <a:ext cx="2881080" cy="665280"/>
            <a:chOff x="395280" y="1035000"/>
            <a:chExt cx="2881080" cy="665280"/>
          </a:xfrm>
        </p:grpSpPr>
        <p:grpSp>
          <p:nvGrpSpPr>
            <p:cNvPr id="244" name="Group 5"/>
            <p:cNvGrpSpPr/>
            <p:nvPr/>
          </p:nvGrpSpPr>
          <p:grpSpPr>
            <a:xfrm>
              <a:off x="395280" y="1035000"/>
              <a:ext cx="761760" cy="665280"/>
              <a:chOff x="395280" y="1035000"/>
              <a:chExt cx="761760" cy="665280"/>
            </a:xfrm>
          </p:grpSpPr>
          <p:sp>
            <p:nvSpPr>
              <p:cNvPr id="245" name="AutoShape 6"/>
              <p:cNvSpPr/>
              <p:nvPr/>
            </p:nvSpPr>
            <p:spPr>
              <a:xfrm>
                <a:off x="401400" y="1046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AutoShape 7"/>
              <p:cNvSpPr/>
              <p:nvPr/>
            </p:nvSpPr>
            <p:spPr>
              <a:xfrm>
                <a:off x="395280" y="10350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7" name="AutoShape 8"/>
              <p:cNvSpPr/>
              <p:nvPr/>
            </p:nvSpPr>
            <p:spPr>
              <a:xfrm>
                <a:off x="439560" y="1074600"/>
                <a:ext cx="663480" cy="574920"/>
              </a:xfrm>
              <a:prstGeom prst="hexagon">
                <a:avLst>
                  <a:gd name="adj" fmla="val 2886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48" name="Line 9"/>
            <p:cNvSpPr/>
            <p:nvPr/>
          </p:nvSpPr>
          <p:spPr>
            <a:xfrm>
              <a:off x="971640" y="1611360"/>
              <a:ext cx="23047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49" name="Text Box 10"/>
            <p:cNvSpPr/>
            <p:nvPr/>
          </p:nvSpPr>
          <p:spPr>
            <a:xfrm>
              <a:off x="1441800" y="1106640"/>
              <a:ext cx="161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25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1" name="Group 12"/>
          <p:cNvGrpSpPr/>
          <p:nvPr/>
        </p:nvGrpSpPr>
        <p:grpSpPr>
          <a:xfrm>
            <a:off x="395280" y="1827360"/>
            <a:ext cx="2879640" cy="664920"/>
            <a:chOff x="395280" y="1827360"/>
            <a:chExt cx="2879640" cy="664920"/>
          </a:xfrm>
        </p:grpSpPr>
        <p:grpSp>
          <p:nvGrpSpPr>
            <p:cNvPr id="252" name="Group 13"/>
            <p:cNvGrpSpPr/>
            <p:nvPr/>
          </p:nvGrpSpPr>
          <p:grpSpPr>
            <a:xfrm>
              <a:off x="395280" y="1827360"/>
              <a:ext cx="761400" cy="664920"/>
              <a:chOff x="395280" y="1827360"/>
              <a:chExt cx="761400" cy="664920"/>
            </a:xfrm>
          </p:grpSpPr>
          <p:sp>
            <p:nvSpPr>
              <p:cNvPr id="25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5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25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25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9" name="Group 20"/>
          <p:cNvGrpSpPr/>
          <p:nvPr/>
        </p:nvGrpSpPr>
        <p:grpSpPr>
          <a:xfrm>
            <a:off x="395280" y="2619360"/>
            <a:ext cx="3744720" cy="665280"/>
            <a:chOff x="395280" y="2619360"/>
            <a:chExt cx="3744720" cy="665280"/>
          </a:xfrm>
        </p:grpSpPr>
        <p:grpSp>
          <p:nvGrpSpPr>
            <p:cNvPr id="260" name="Group 21"/>
            <p:cNvGrpSpPr/>
            <p:nvPr/>
          </p:nvGrpSpPr>
          <p:grpSpPr>
            <a:xfrm>
              <a:off x="395280" y="2619360"/>
              <a:ext cx="764640" cy="665280"/>
              <a:chOff x="395280" y="2619360"/>
              <a:chExt cx="764640" cy="665280"/>
            </a:xfrm>
          </p:grpSpPr>
          <p:sp>
            <p:nvSpPr>
              <p:cNvPr id="261" name="AutoShape 22"/>
              <p:cNvSpPr/>
              <p:nvPr/>
            </p:nvSpPr>
            <p:spPr>
              <a:xfrm>
                <a:off x="401760" y="2630520"/>
                <a:ext cx="758160" cy="654120"/>
              </a:xfrm>
              <a:prstGeom prst="hexagon">
                <a:avLst>
                  <a:gd name="adj" fmla="val 2897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2" name="AutoShape 23"/>
              <p:cNvSpPr/>
              <p:nvPr/>
            </p:nvSpPr>
            <p:spPr>
              <a:xfrm>
                <a:off x="395280" y="2619360"/>
                <a:ext cx="758160" cy="654120"/>
              </a:xfrm>
              <a:prstGeom prst="hexagon">
                <a:avLst>
                  <a:gd name="adj" fmla="val 2897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AutoShape 24"/>
              <p:cNvSpPr/>
              <p:nvPr/>
            </p:nvSpPr>
            <p:spPr>
              <a:xfrm>
                <a:off x="439560" y="2658960"/>
                <a:ext cx="666360" cy="574920"/>
              </a:xfrm>
              <a:prstGeom prst="hexagon">
                <a:avLst>
                  <a:gd name="adj" fmla="val 2894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64" name="Line 25"/>
            <p:cNvSpPr/>
            <p:nvPr/>
          </p:nvSpPr>
          <p:spPr>
            <a:xfrm>
              <a:off x="973440" y="3195720"/>
              <a:ext cx="2312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65" name="Text Box 26"/>
            <p:cNvSpPr/>
            <p:nvPr/>
          </p:nvSpPr>
          <p:spPr>
            <a:xfrm>
              <a:off x="1445400" y="2691000"/>
              <a:ext cx="26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266" name="Text Box 27"/>
            <p:cNvSpPr/>
            <p:nvPr/>
          </p:nvSpPr>
          <p:spPr>
            <a:xfrm>
              <a:off x="58104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7" name="Group 28"/>
          <p:cNvGrpSpPr/>
          <p:nvPr/>
        </p:nvGrpSpPr>
        <p:grpSpPr>
          <a:xfrm>
            <a:off x="395280" y="3411360"/>
            <a:ext cx="2879640" cy="665280"/>
            <a:chOff x="395280" y="3411360"/>
            <a:chExt cx="2879640" cy="665280"/>
          </a:xfrm>
        </p:grpSpPr>
        <p:grpSp>
          <p:nvGrpSpPr>
            <p:cNvPr id="268" name="Group 29"/>
            <p:cNvGrpSpPr/>
            <p:nvPr/>
          </p:nvGrpSpPr>
          <p:grpSpPr>
            <a:xfrm>
              <a:off x="395280" y="3411360"/>
              <a:ext cx="761400" cy="665280"/>
              <a:chOff x="395280" y="3411360"/>
              <a:chExt cx="761400" cy="665280"/>
            </a:xfrm>
          </p:grpSpPr>
          <p:sp>
            <p:nvSpPr>
              <p:cNvPr id="26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7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7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5" name="Group 36"/>
          <p:cNvGrpSpPr/>
          <p:nvPr/>
        </p:nvGrpSpPr>
        <p:grpSpPr>
          <a:xfrm>
            <a:off x="395280" y="4203720"/>
            <a:ext cx="2879640" cy="665280"/>
            <a:chOff x="395280" y="4203720"/>
            <a:chExt cx="2879640" cy="665280"/>
          </a:xfrm>
        </p:grpSpPr>
        <p:grpSp>
          <p:nvGrpSpPr>
            <p:cNvPr id="276" name="Group 37"/>
            <p:cNvGrpSpPr/>
            <p:nvPr/>
          </p:nvGrpSpPr>
          <p:grpSpPr>
            <a:xfrm>
              <a:off x="395280" y="4203720"/>
              <a:ext cx="761400" cy="665280"/>
              <a:chOff x="395280" y="4203720"/>
              <a:chExt cx="761400" cy="665280"/>
            </a:xfrm>
          </p:grpSpPr>
          <p:sp>
            <p:nvSpPr>
              <p:cNvPr id="27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83" name="Group 44"/>
          <p:cNvGrpSpPr/>
          <p:nvPr/>
        </p:nvGrpSpPr>
        <p:grpSpPr>
          <a:xfrm>
            <a:off x="395280" y="4995720"/>
            <a:ext cx="2879640" cy="665280"/>
            <a:chOff x="395280" y="4995720"/>
            <a:chExt cx="2879640" cy="665280"/>
          </a:xfrm>
        </p:grpSpPr>
        <p:grpSp>
          <p:nvGrpSpPr>
            <p:cNvPr id="284" name="Group 45"/>
            <p:cNvGrpSpPr/>
            <p:nvPr/>
          </p:nvGrpSpPr>
          <p:grpSpPr>
            <a:xfrm>
              <a:off x="395280" y="4995720"/>
              <a:ext cx="761400" cy="665280"/>
              <a:chOff x="395280" y="4995720"/>
              <a:chExt cx="761400" cy="665280"/>
            </a:xfrm>
          </p:grpSpPr>
          <p:sp>
            <p:nvSpPr>
              <p:cNvPr id="28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9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91" name="AutoShape 53"/>
          <p:cNvSpPr/>
          <p:nvPr/>
        </p:nvSpPr>
        <p:spPr>
          <a:xfrm>
            <a:off x="3143160" y="13366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2" name="圆角矩形 54"/>
          <p:cNvSpPr/>
          <p:nvPr/>
        </p:nvSpPr>
        <p:spPr>
          <a:xfrm>
            <a:off x="4214880" y="135720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护士应理解血糖数值的意义，熟练掌握采血方法及血糖仪操作，能迅速准确测量血糖值。</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3"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294"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295" name="Group 44"/>
          <p:cNvGrpSpPr/>
          <p:nvPr/>
        </p:nvGrpSpPr>
        <p:grpSpPr>
          <a:xfrm>
            <a:off x="395280" y="5788080"/>
            <a:ext cx="2879640" cy="665280"/>
            <a:chOff x="395280" y="5788080"/>
            <a:chExt cx="2879640" cy="665280"/>
          </a:xfrm>
        </p:grpSpPr>
        <p:grpSp>
          <p:nvGrpSpPr>
            <p:cNvPr id="296" name="Group 45"/>
            <p:cNvGrpSpPr/>
            <p:nvPr/>
          </p:nvGrpSpPr>
          <p:grpSpPr>
            <a:xfrm>
              <a:off x="395280" y="5788080"/>
              <a:ext cx="761400" cy="665280"/>
              <a:chOff x="395280" y="5788080"/>
              <a:chExt cx="761400" cy="665280"/>
            </a:xfrm>
          </p:grpSpPr>
          <p:sp>
            <p:nvSpPr>
              <p:cNvPr id="297"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8"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9"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00"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01"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2"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12AF7-FAD5-405A-8EF3-BEBCC2E8CB9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05" name="Group 4"/>
          <p:cNvGrpSpPr/>
          <p:nvPr/>
        </p:nvGrpSpPr>
        <p:grpSpPr>
          <a:xfrm>
            <a:off x="395280" y="1035000"/>
            <a:ext cx="2879640" cy="665280"/>
            <a:chOff x="395280" y="1035000"/>
            <a:chExt cx="2879640" cy="665280"/>
          </a:xfrm>
        </p:grpSpPr>
        <p:grpSp>
          <p:nvGrpSpPr>
            <p:cNvPr id="306" name="Group 5"/>
            <p:cNvGrpSpPr/>
            <p:nvPr/>
          </p:nvGrpSpPr>
          <p:grpSpPr>
            <a:xfrm>
              <a:off x="395280" y="1035000"/>
              <a:ext cx="761400" cy="665280"/>
              <a:chOff x="395280" y="1035000"/>
              <a:chExt cx="761400" cy="665280"/>
            </a:xfrm>
          </p:grpSpPr>
          <p:sp>
            <p:nvSpPr>
              <p:cNvPr id="30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1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1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3" name="Group 12"/>
          <p:cNvGrpSpPr/>
          <p:nvPr/>
        </p:nvGrpSpPr>
        <p:grpSpPr>
          <a:xfrm>
            <a:off x="395280" y="1827360"/>
            <a:ext cx="2879640" cy="664920"/>
            <a:chOff x="395280" y="1827360"/>
            <a:chExt cx="2879640" cy="664920"/>
          </a:xfrm>
        </p:grpSpPr>
        <p:grpSp>
          <p:nvGrpSpPr>
            <p:cNvPr id="314" name="Group 13"/>
            <p:cNvGrpSpPr/>
            <p:nvPr/>
          </p:nvGrpSpPr>
          <p:grpSpPr>
            <a:xfrm>
              <a:off x="395280" y="1827360"/>
              <a:ext cx="761400" cy="664920"/>
              <a:chOff x="395280" y="1827360"/>
              <a:chExt cx="761400" cy="664920"/>
            </a:xfrm>
          </p:grpSpPr>
          <p:sp>
            <p:nvSpPr>
              <p:cNvPr id="31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1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2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1" name="Group 20"/>
          <p:cNvGrpSpPr/>
          <p:nvPr/>
        </p:nvGrpSpPr>
        <p:grpSpPr>
          <a:xfrm>
            <a:off x="395280" y="2619360"/>
            <a:ext cx="3225240" cy="665280"/>
            <a:chOff x="395280" y="2619360"/>
            <a:chExt cx="3225240" cy="665280"/>
          </a:xfrm>
        </p:grpSpPr>
        <p:grpSp>
          <p:nvGrpSpPr>
            <p:cNvPr id="322" name="Group 21"/>
            <p:cNvGrpSpPr/>
            <p:nvPr/>
          </p:nvGrpSpPr>
          <p:grpSpPr>
            <a:xfrm>
              <a:off x="395280" y="2619360"/>
              <a:ext cx="761400" cy="665280"/>
              <a:chOff x="395280" y="2619360"/>
              <a:chExt cx="761400" cy="665280"/>
            </a:xfrm>
          </p:grpSpPr>
          <p:sp>
            <p:nvSpPr>
              <p:cNvPr id="32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2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2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2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29" name="Group 28"/>
          <p:cNvGrpSpPr/>
          <p:nvPr/>
        </p:nvGrpSpPr>
        <p:grpSpPr>
          <a:xfrm>
            <a:off x="395280" y="3411360"/>
            <a:ext cx="2879640" cy="665280"/>
            <a:chOff x="395280" y="3411360"/>
            <a:chExt cx="2879640" cy="665280"/>
          </a:xfrm>
        </p:grpSpPr>
        <p:grpSp>
          <p:nvGrpSpPr>
            <p:cNvPr id="330" name="Group 29"/>
            <p:cNvGrpSpPr/>
            <p:nvPr/>
          </p:nvGrpSpPr>
          <p:grpSpPr>
            <a:xfrm>
              <a:off x="395280" y="3411360"/>
              <a:ext cx="761400" cy="665280"/>
              <a:chOff x="395280" y="3411360"/>
              <a:chExt cx="761400" cy="665280"/>
            </a:xfrm>
          </p:grpSpPr>
          <p:sp>
            <p:nvSpPr>
              <p:cNvPr id="33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3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3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37" name="Group 36"/>
          <p:cNvGrpSpPr/>
          <p:nvPr/>
        </p:nvGrpSpPr>
        <p:grpSpPr>
          <a:xfrm>
            <a:off x="395280" y="4203720"/>
            <a:ext cx="2879640" cy="665280"/>
            <a:chOff x="395280" y="4203720"/>
            <a:chExt cx="2879640" cy="665280"/>
          </a:xfrm>
        </p:grpSpPr>
        <p:grpSp>
          <p:nvGrpSpPr>
            <p:cNvPr id="338" name="Group 37"/>
            <p:cNvGrpSpPr/>
            <p:nvPr/>
          </p:nvGrpSpPr>
          <p:grpSpPr>
            <a:xfrm>
              <a:off x="395280" y="4203720"/>
              <a:ext cx="761400" cy="665280"/>
              <a:chOff x="395280" y="4203720"/>
              <a:chExt cx="761400" cy="665280"/>
            </a:xfrm>
          </p:grpSpPr>
          <p:sp>
            <p:nvSpPr>
              <p:cNvPr id="33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4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4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45" name="Group 44"/>
          <p:cNvGrpSpPr/>
          <p:nvPr/>
        </p:nvGrpSpPr>
        <p:grpSpPr>
          <a:xfrm>
            <a:off x="395280" y="4995720"/>
            <a:ext cx="2879640" cy="665280"/>
            <a:chOff x="395280" y="4995720"/>
            <a:chExt cx="2879640" cy="665280"/>
          </a:xfrm>
        </p:grpSpPr>
        <p:grpSp>
          <p:nvGrpSpPr>
            <p:cNvPr id="346" name="Group 45"/>
            <p:cNvGrpSpPr/>
            <p:nvPr/>
          </p:nvGrpSpPr>
          <p:grpSpPr>
            <a:xfrm>
              <a:off x="395280" y="4995720"/>
              <a:ext cx="761400" cy="665280"/>
              <a:chOff x="395280" y="4995720"/>
              <a:chExt cx="761400" cy="665280"/>
            </a:xfrm>
          </p:grpSpPr>
          <p:sp>
            <p:nvSpPr>
              <p:cNvPr id="34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5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5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5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53" name="AutoShape 53"/>
          <p:cNvSpPr/>
          <p:nvPr/>
        </p:nvSpPr>
        <p:spPr>
          <a:xfrm>
            <a:off x="3348000" y="213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35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356" name="Group 44"/>
          <p:cNvGrpSpPr/>
          <p:nvPr/>
        </p:nvGrpSpPr>
        <p:grpSpPr>
          <a:xfrm>
            <a:off x="395280" y="5788080"/>
            <a:ext cx="2879640" cy="665280"/>
            <a:chOff x="395280" y="5788080"/>
            <a:chExt cx="2879640" cy="665280"/>
          </a:xfrm>
        </p:grpSpPr>
        <p:grpSp>
          <p:nvGrpSpPr>
            <p:cNvPr id="357" name="Group 45"/>
            <p:cNvGrpSpPr/>
            <p:nvPr/>
          </p:nvGrpSpPr>
          <p:grpSpPr>
            <a:xfrm>
              <a:off x="395280" y="5788080"/>
              <a:ext cx="761400" cy="665280"/>
              <a:chOff x="395280" y="5788080"/>
              <a:chExt cx="761400" cy="665280"/>
            </a:xfrm>
          </p:grpSpPr>
          <p:sp>
            <p:nvSpPr>
              <p:cNvPr id="35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6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6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6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364" name="圆角矩形 54"/>
          <p:cNvSpPr/>
          <p:nvPr/>
        </p:nvSpPr>
        <p:spPr>
          <a:xfrm>
            <a:off x="4214880" y="1357200"/>
            <a:ext cx="4678200" cy="4735800"/>
          </a:xfrm>
          <a:custGeom>
            <a:avLst/>
            <a:gdLst>
              <a:gd name="textAreaLeft" fmla="*/ 228240 w 4678200"/>
              <a:gd name="textAreaRight" fmla="*/ 4449960 w 4678200"/>
              <a:gd name="textAreaTop" fmla="*/ 228240 h 4735800"/>
              <a:gd name="textAreaBottom" fmla="*/ 4507560 h 4735800"/>
            </a:gdLst>
            <a:ahLst/>
            <a:rect l="textAreaLeft" t="textAreaTop" r="textAreaRight" b="textAreaBottom"/>
            <a:pathLst>
              <a:path w="21600" h="21866">
                <a:moveTo>
                  <a:pt x="3600" y="0"/>
                </a:moveTo>
                <a:arcTo wR="3600" hR="3600" stAng="16200000" swAng="-5400000"/>
                <a:lnTo>
                  <a:pt x="0" y="18266"/>
                </a:lnTo>
                <a:arcTo wR="3600" hR="3600" stAng="10800000" swAng="-5400000"/>
                <a:lnTo>
                  <a:pt x="18000" y="2186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低血糖时可出现面色苍白、心悸、出汗，呼吸浅快等迹象，严重时意识恍惚、言行怪异、昏睡、抽搐惊厥甚至昏迷死亡，应注意观察。</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重症监护室患者多处于镇静状态或昏迷状态，应提高警惕，密切观察患者情况，按需监测血糖数值及变化趋势，防止低血糖发生。</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60AC-0DF2-4125-A9C0-88DD101476F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67" name="Group 4"/>
          <p:cNvGrpSpPr/>
          <p:nvPr/>
        </p:nvGrpSpPr>
        <p:grpSpPr>
          <a:xfrm>
            <a:off x="395280" y="1035000"/>
            <a:ext cx="2879640" cy="665280"/>
            <a:chOff x="395280" y="1035000"/>
            <a:chExt cx="2879640" cy="665280"/>
          </a:xfrm>
        </p:grpSpPr>
        <p:grpSp>
          <p:nvGrpSpPr>
            <p:cNvPr id="368" name="Group 5"/>
            <p:cNvGrpSpPr/>
            <p:nvPr/>
          </p:nvGrpSpPr>
          <p:grpSpPr>
            <a:xfrm>
              <a:off x="395280" y="1035000"/>
              <a:ext cx="761400" cy="665280"/>
              <a:chOff x="395280" y="1035000"/>
              <a:chExt cx="761400" cy="665280"/>
            </a:xfrm>
          </p:grpSpPr>
          <p:sp>
            <p:nvSpPr>
              <p:cNvPr id="369"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0"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1"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72"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73"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74"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5" name="Group 12"/>
          <p:cNvGrpSpPr/>
          <p:nvPr/>
        </p:nvGrpSpPr>
        <p:grpSpPr>
          <a:xfrm>
            <a:off x="395280" y="1827360"/>
            <a:ext cx="2879640" cy="664920"/>
            <a:chOff x="395280" y="1827360"/>
            <a:chExt cx="2879640" cy="664920"/>
          </a:xfrm>
        </p:grpSpPr>
        <p:grpSp>
          <p:nvGrpSpPr>
            <p:cNvPr id="376" name="Group 13"/>
            <p:cNvGrpSpPr/>
            <p:nvPr/>
          </p:nvGrpSpPr>
          <p:grpSpPr>
            <a:xfrm>
              <a:off x="395280" y="1827360"/>
              <a:ext cx="761400" cy="664920"/>
              <a:chOff x="395280" y="1827360"/>
              <a:chExt cx="761400" cy="664920"/>
            </a:xfrm>
          </p:grpSpPr>
          <p:sp>
            <p:nvSpPr>
              <p:cNvPr id="377"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8"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9"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0"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81"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82"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3" name="Group 20"/>
          <p:cNvGrpSpPr/>
          <p:nvPr/>
        </p:nvGrpSpPr>
        <p:grpSpPr>
          <a:xfrm>
            <a:off x="395280" y="2619360"/>
            <a:ext cx="3225240" cy="665280"/>
            <a:chOff x="395280" y="2619360"/>
            <a:chExt cx="3225240" cy="665280"/>
          </a:xfrm>
        </p:grpSpPr>
        <p:grpSp>
          <p:nvGrpSpPr>
            <p:cNvPr id="384" name="Group 21"/>
            <p:cNvGrpSpPr/>
            <p:nvPr/>
          </p:nvGrpSpPr>
          <p:grpSpPr>
            <a:xfrm>
              <a:off x="395280" y="2619360"/>
              <a:ext cx="761400" cy="665280"/>
              <a:chOff x="395280" y="2619360"/>
              <a:chExt cx="761400" cy="665280"/>
            </a:xfrm>
          </p:grpSpPr>
          <p:sp>
            <p:nvSpPr>
              <p:cNvPr id="385"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6"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7"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8"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89"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90"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91" name="Group 28"/>
          <p:cNvGrpSpPr/>
          <p:nvPr/>
        </p:nvGrpSpPr>
        <p:grpSpPr>
          <a:xfrm>
            <a:off x="395280" y="3411360"/>
            <a:ext cx="2879640" cy="665280"/>
            <a:chOff x="395280" y="3411360"/>
            <a:chExt cx="2879640" cy="665280"/>
          </a:xfrm>
        </p:grpSpPr>
        <p:grpSp>
          <p:nvGrpSpPr>
            <p:cNvPr id="392" name="Group 29"/>
            <p:cNvGrpSpPr/>
            <p:nvPr/>
          </p:nvGrpSpPr>
          <p:grpSpPr>
            <a:xfrm>
              <a:off x="395280" y="3411360"/>
              <a:ext cx="761400" cy="665280"/>
              <a:chOff x="395280" y="3411360"/>
              <a:chExt cx="761400" cy="665280"/>
            </a:xfrm>
          </p:grpSpPr>
          <p:sp>
            <p:nvSpPr>
              <p:cNvPr id="393"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4"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5"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96"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97"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8"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9" name="Group 36"/>
          <p:cNvGrpSpPr/>
          <p:nvPr/>
        </p:nvGrpSpPr>
        <p:grpSpPr>
          <a:xfrm>
            <a:off x="395280" y="4203720"/>
            <a:ext cx="2879640" cy="665280"/>
            <a:chOff x="395280" y="4203720"/>
            <a:chExt cx="2879640" cy="665280"/>
          </a:xfrm>
        </p:grpSpPr>
        <p:grpSp>
          <p:nvGrpSpPr>
            <p:cNvPr id="400" name="Group 37"/>
            <p:cNvGrpSpPr/>
            <p:nvPr/>
          </p:nvGrpSpPr>
          <p:grpSpPr>
            <a:xfrm>
              <a:off x="395280" y="4203720"/>
              <a:ext cx="761400" cy="665280"/>
              <a:chOff x="395280" y="4203720"/>
              <a:chExt cx="761400" cy="665280"/>
            </a:xfrm>
          </p:grpSpPr>
          <p:sp>
            <p:nvSpPr>
              <p:cNvPr id="401"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2"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3"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04"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05"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6"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07" name="Group 44"/>
          <p:cNvGrpSpPr/>
          <p:nvPr/>
        </p:nvGrpSpPr>
        <p:grpSpPr>
          <a:xfrm>
            <a:off x="395280" y="4995720"/>
            <a:ext cx="2879640" cy="665280"/>
            <a:chOff x="395280" y="4995720"/>
            <a:chExt cx="2879640" cy="665280"/>
          </a:xfrm>
        </p:grpSpPr>
        <p:grpSp>
          <p:nvGrpSpPr>
            <p:cNvPr id="408" name="Group 45"/>
            <p:cNvGrpSpPr/>
            <p:nvPr/>
          </p:nvGrpSpPr>
          <p:grpSpPr>
            <a:xfrm>
              <a:off x="395280" y="4995720"/>
              <a:ext cx="761400" cy="665280"/>
              <a:chOff x="395280" y="4995720"/>
              <a:chExt cx="761400" cy="665280"/>
            </a:xfrm>
          </p:grpSpPr>
          <p:sp>
            <p:nvSpPr>
              <p:cNvPr id="409"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0"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1"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12"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13"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4"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15"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16"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17" name="Group 44"/>
          <p:cNvGrpSpPr/>
          <p:nvPr/>
        </p:nvGrpSpPr>
        <p:grpSpPr>
          <a:xfrm>
            <a:off x="395280" y="5788080"/>
            <a:ext cx="2879640" cy="665280"/>
            <a:chOff x="395280" y="5788080"/>
            <a:chExt cx="2879640" cy="665280"/>
          </a:xfrm>
        </p:grpSpPr>
        <p:grpSp>
          <p:nvGrpSpPr>
            <p:cNvPr id="418" name="Group 45"/>
            <p:cNvGrpSpPr/>
            <p:nvPr/>
          </p:nvGrpSpPr>
          <p:grpSpPr>
            <a:xfrm>
              <a:off x="395280" y="5788080"/>
              <a:ext cx="761400" cy="665280"/>
              <a:chOff x="395280" y="5788080"/>
              <a:chExt cx="761400" cy="665280"/>
            </a:xfrm>
          </p:grpSpPr>
          <p:sp>
            <p:nvSpPr>
              <p:cNvPr id="419"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0"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1"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22"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23"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24"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25" name="圆角矩形 54"/>
          <p:cNvSpPr/>
          <p:nvPr/>
        </p:nvSpPr>
        <p:spPr>
          <a:xfrm>
            <a:off x="4214880" y="1357200"/>
            <a:ext cx="4678200" cy="293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在每位患者使用胰岛素前，护士应严格核对医嘱，确定其用法和剂量，防止胰岛素误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其他注意事项，同糖尿病患者胰岛素使用注意事项。</a:t>
            </a:r>
            <a:r>
              <a:rPr b="0"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426" name="AutoShape 53"/>
          <p:cNvSpPr/>
          <p:nvPr/>
        </p:nvSpPr>
        <p:spPr>
          <a:xfrm>
            <a:off x="3851280" y="29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145C6-3BED-431F-A5C3-782DF7F72A2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床监护</a:t>
            </a:r>
            <a:endParaRPr b="0" lang="en-US" sz="3600" spc="-1" strike="noStrike">
              <a:solidFill>
                <a:srgbClr val="ffffff"/>
              </a:solidFill>
              <a:latin typeface="Verdana"/>
            </a:endParaRPr>
          </a:p>
        </p:txBody>
      </p:sp>
      <p:sp>
        <p:nvSpPr>
          <p:cNvPr id="13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一、一般评估</a:t>
            </a:r>
            <a:endParaRPr b="1" lang="en-US" sz="3600" spc="-1" strike="noStrike">
              <a:solidFill>
                <a:srgbClr val="8ac8de"/>
              </a:solidFill>
              <a:latin typeface="Verdana"/>
            </a:endParaRPr>
          </a:p>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二、血糖检测</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B759-5F91-4BB2-B868-8DB6781576D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9" name="Group 4"/>
          <p:cNvGrpSpPr/>
          <p:nvPr/>
        </p:nvGrpSpPr>
        <p:grpSpPr>
          <a:xfrm>
            <a:off x="395280" y="1035000"/>
            <a:ext cx="2879640" cy="665280"/>
            <a:chOff x="395280" y="1035000"/>
            <a:chExt cx="2879640" cy="665280"/>
          </a:xfrm>
        </p:grpSpPr>
        <p:grpSp>
          <p:nvGrpSpPr>
            <p:cNvPr id="430" name="Group 5"/>
            <p:cNvGrpSpPr/>
            <p:nvPr/>
          </p:nvGrpSpPr>
          <p:grpSpPr>
            <a:xfrm>
              <a:off x="395280" y="1035000"/>
              <a:ext cx="761400" cy="665280"/>
              <a:chOff x="395280" y="1035000"/>
              <a:chExt cx="761400" cy="665280"/>
            </a:xfrm>
          </p:grpSpPr>
          <p:sp>
            <p:nvSpPr>
              <p:cNvPr id="431"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2"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3"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4"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35"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36"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37" name="Group 12"/>
          <p:cNvGrpSpPr/>
          <p:nvPr/>
        </p:nvGrpSpPr>
        <p:grpSpPr>
          <a:xfrm>
            <a:off x="395280" y="1827360"/>
            <a:ext cx="2879640" cy="664920"/>
            <a:chOff x="395280" y="1827360"/>
            <a:chExt cx="2879640" cy="664920"/>
          </a:xfrm>
        </p:grpSpPr>
        <p:grpSp>
          <p:nvGrpSpPr>
            <p:cNvPr id="438" name="Group 13"/>
            <p:cNvGrpSpPr/>
            <p:nvPr/>
          </p:nvGrpSpPr>
          <p:grpSpPr>
            <a:xfrm>
              <a:off x="395280" y="1827360"/>
              <a:ext cx="761400" cy="664920"/>
              <a:chOff x="395280" y="1827360"/>
              <a:chExt cx="761400" cy="664920"/>
            </a:xfrm>
          </p:grpSpPr>
          <p:sp>
            <p:nvSpPr>
              <p:cNvPr id="439"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0"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1"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42"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443"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444"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5" name="Group 20"/>
          <p:cNvGrpSpPr/>
          <p:nvPr/>
        </p:nvGrpSpPr>
        <p:grpSpPr>
          <a:xfrm>
            <a:off x="395280" y="2619360"/>
            <a:ext cx="3225240" cy="665280"/>
            <a:chOff x="395280" y="2619360"/>
            <a:chExt cx="3225240" cy="665280"/>
          </a:xfrm>
        </p:grpSpPr>
        <p:grpSp>
          <p:nvGrpSpPr>
            <p:cNvPr id="446" name="Group 21"/>
            <p:cNvGrpSpPr/>
            <p:nvPr/>
          </p:nvGrpSpPr>
          <p:grpSpPr>
            <a:xfrm>
              <a:off x="395280" y="2619360"/>
              <a:ext cx="761400" cy="665280"/>
              <a:chOff x="395280" y="2619360"/>
              <a:chExt cx="761400" cy="665280"/>
            </a:xfrm>
          </p:grpSpPr>
          <p:sp>
            <p:nvSpPr>
              <p:cNvPr id="447"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8"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9"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0"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1"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452"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3" name="Group 28"/>
          <p:cNvGrpSpPr/>
          <p:nvPr/>
        </p:nvGrpSpPr>
        <p:grpSpPr>
          <a:xfrm>
            <a:off x="395280" y="3411360"/>
            <a:ext cx="2879640" cy="665280"/>
            <a:chOff x="395280" y="3411360"/>
            <a:chExt cx="2879640" cy="665280"/>
          </a:xfrm>
        </p:grpSpPr>
        <p:grpSp>
          <p:nvGrpSpPr>
            <p:cNvPr id="454" name="Group 29"/>
            <p:cNvGrpSpPr/>
            <p:nvPr/>
          </p:nvGrpSpPr>
          <p:grpSpPr>
            <a:xfrm>
              <a:off x="395280" y="3411360"/>
              <a:ext cx="761400" cy="665280"/>
              <a:chOff x="395280" y="3411360"/>
              <a:chExt cx="761400" cy="665280"/>
            </a:xfrm>
          </p:grpSpPr>
          <p:sp>
            <p:nvSpPr>
              <p:cNvPr id="455"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6"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7"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8"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9"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0"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1" name="Group 36"/>
          <p:cNvGrpSpPr/>
          <p:nvPr/>
        </p:nvGrpSpPr>
        <p:grpSpPr>
          <a:xfrm>
            <a:off x="395280" y="4203720"/>
            <a:ext cx="2879640" cy="665280"/>
            <a:chOff x="395280" y="4203720"/>
            <a:chExt cx="2879640" cy="665280"/>
          </a:xfrm>
        </p:grpSpPr>
        <p:grpSp>
          <p:nvGrpSpPr>
            <p:cNvPr id="462" name="Group 37"/>
            <p:cNvGrpSpPr/>
            <p:nvPr/>
          </p:nvGrpSpPr>
          <p:grpSpPr>
            <a:xfrm>
              <a:off x="395280" y="4203720"/>
              <a:ext cx="761400" cy="665280"/>
              <a:chOff x="395280" y="4203720"/>
              <a:chExt cx="761400" cy="665280"/>
            </a:xfrm>
          </p:grpSpPr>
          <p:sp>
            <p:nvSpPr>
              <p:cNvPr id="463"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4"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5"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66"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67"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8"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69" name="Group 44"/>
          <p:cNvGrpSpPr/>
          <p:nvPr/>
        </p:nvGrpSpPr>
        <p:grpSpPr>
          <a:xfrm>
            <a:off x="395280" y="4995720"/>
            <a:ext cx="2879640" cy="665280"/>
            <a:chOff x="395280" y="4995720"/>
            <a:chExt cx="2879640" cy="665280"/>
          </a:xfrm>
        </p:grpSpPr>
        <p:grpSp>
          <p:nvGrpSpPr>
            <p:cNvPr id="470" name="Group 45"/>
            <p:cNvGrpSpPr/>
            <p:nvPr/>
          </p:nvGrpSpPr>
          <p:grpSpPr>
            <a:xfrm>
              <a:off x="395280" y="4995720"/>
              <a:ext cx="761400" cy="665280"/>
              <a:chOff x="395280" y="4995720"/>
              <a:chExt cx="761400" cy="665280"/>
            </a:xfrm>
          </p:grpSpPr>
          <p:sp>
            <p:nvSpPr>
              <p:cNvPr id="471"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2"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3"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74"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75"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76"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77" name="AutoShape 53"/>
          <p:cNvSpPr/>
          <p:nvPr/>
        </p:nvSpPr>
        <p:spPr>
          <a:xfrm>
            <a:off x="3564000" y="3716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8"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79"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80" name="Group 44"/>
          <p:cNvGrpSpPr/>
          <p:nvPr/>
        </p:nvGrpSpPr>
        <p:grpSpPr>
          <a:xfrm>
            <a:off x="395280" y="5788080"/>
            <a:ext cx="2879640" cy="665280"/>
            <a:chOff x="395280" y="5788080"/>
            <a:chExt cx="2879640" cy="665280"/>
          </a:xfrm>
        </p:grpSpPr>
        <p:grpSp>
          <p:nvGrpSpPr>
            <p:cNvPr id="481" name="Group 45"/>
            <p:cNvGrpSpPr/>
            <p:nvPr/>
          </p:nvGrpSpPr>
          <p:grpSpPr>
            <a:xfrm>
              <a:off x="395280" y="5788080"/>
              <a:ext cx="761400" cy="665280"/>
              <a:chOff x="395280" y="5788080"/>
              <a:chExt cx="761400" cy="665280"/>
            </a:xfrm>
          </p:grpSpPr>
          <p:sp>
            <p:nvSpPr>
              <p:cNvPr id="482"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3"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4"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85"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86"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87"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88" name="圆角矩形 54"/>
          <p:cNvSpPr/>
          <p:nvPr/>
        </p:nvSpPr>
        <p:spPr>
          <a:xfrm>
            <a:off x="4214880" y="294156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需进行血气分析、生化检查，监测血钠、血钾、血氯及酸碱平衡等情况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6D11C-EF75-4342-B500-DFCE059926A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1" name="Group 4"/>
          <p:cNvGrpSpPr/>
          <p:nvPr/>
        </p:nvGrpSpPr>
        <p:grpSpPr>
          <a:xfrm>
            <a:off x="395280" y="1035000"/>
            <a:ext cx="2879640" cy="665280"/>
            <a:chOff x="395280" y="1035000"/>
            <a:chExt cx="2879640" cy="665280"/>
          </a:xfrm>
        </p:grpSpPr>
        <p:grpSp>
          <p:nvGrpSpPr>
            <p:cNvPr id="492" name="Group 5"/>
            <p:cNvGrpSpPr/>
            <p:nvPr/>
          </p:nvGrpSpPr>
          <p:grpSpPr>
            <a:xfrm>
              <a:off x="395280" y="1035000"/>
              <a:ext cx="761400" cy="665280"/>
              <a:chOff x="395280" y="1035000"/>
              <a:chExt cx="761400" cy="665280"/>
            </a:xfrm>
          </p:grpSpPr>
          <p:sp>
            <p:nvSpPr>
              <p:cNvPr id="493"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4"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5"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96"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97"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98"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9" name="Group 12"/>
          <p:cNvGrpSpPr/>
          <p:nvPr/>
        </p:nvGrpSpPr>
        <p:grpSpPr>
          <a:xfrm>
            <a:off x="395280" y="1827360"/>
            <a:ext cx="2879640" cy="664920"/>
            <a:chOff x="395280" y="1827360"/>
            <a:chExt cx="2879640" cy="664920"/>
          </a:xfrm>
        </p:grpSpPr>
        <p:grpSp>
          <p:nvGrpSpPr>
            <p:cNvPr id="500" name="Group 13"/>
            <p:cNvGrpSpPr/>
            <p:nvPr/>
          </p:nvGrpSpPr>
          <p:grpSpPr>
            <a:xfrm>
              <a:off x="395280" y="1827360"/>
              <a:ext cx="761400" cy="664920"/>
              <a:chOff x="395280" y="1827360"/>
              <a:chExt cx="761400" cy="664920"/>
            </a:xfrm>
          </p:grpSpPr>
          <p:sp>
            <p:nvSpPr>
              <p:cNvPr id="501"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2"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3"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04"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05"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06"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7" name="Group 20"/>
          <p:cNvGrpSpPr/>
          <p:nvPr/>
        </p:nvGrpSpPr>
        <p:grpSpPr>
          <a:xfrm>
            <a:off x="395280" y="2619360"/>
            <a:ext cx="3225240" cy="665280"/>
            <a:chOff x="395280" y="2619360"/>
            <a:chExt cx="3225240" cy="665280"/>
          </a:xfrm>
        </p:grpSpPr>
        <p:grpSp>
          <p:nvGrpSpPr>
            <p:cNvPr id="508" name="Group 21"/>
            <p:cNvGrpSpPr/>
            <p:nvPr/>
          </p:nvGrpSpPr>
          <p:grpSpPr>
            <a:xfrm>
              <a:off x="395280" y="2619360"/>
              <a:ext cx="761400" cy="665280"/>
              <a:chOff x="395280" y="2619360"/>
              <a:chExt cx="761400" cy="665280"/>
            </a:xfrm>
          </p:grpSpPr>
          <p:sp>
            <p:nvSpPr>
              <p:cNvPr id="509"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0"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1"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2"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13"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14"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5" name="Group 28"/>
          <p:cNvGrpSpPr/>
          <p:nvPr/>
        </p:nvGrpSpPr>
        <p:grpSpPr>
          <a:xfrm>
            <a:off x="395280" y="3411360"/>
            <a:ext cx="2879640" cy="665280"/>
            <a:chOff x="395280" y="3411360"/>
            <a:chExt cx="2879640" cy="665280"/>
          </a:xfrm>
        </p:grpSpPr>
        <p:grpSp>
          <p:nvGrpSpPr>
            <p:cNvPr id="516" name="Group 29"/>
            <p:cNvGrpSpPr/>
            <p:nvPr/>
          </p:nvGrpSpPr>
          <p:grpSpPr>
            <a:xfrm>
              <a:off x="395280" y="3411360"/>
              <a:ext cx="761400" cy="665280"/>
              <a:chOff x="395280" y="3411360"/>
              <a:chExt cx="761400" cy="665280"/>
            </a:xfrm>
          </p:grpSpPr>
          <p:sp>
            <p:nvSpPr>
              <p:cNvPr id="517"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8"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9"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0"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1"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2"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3" name="Group 36"/>
          <p:cNvGrpSpPr/>
          <p:nvPr/>
        </p:nvGrpSpPr>
        <p:grpSpPr>
          <a:xfrm>
            <a:off x="395280" y="4203720"/>
            <a:ext cx="2879640" cy="665280"/>
            <a:chOff x="395280" y="4203720"/>
            <a:chExt cx="2879640" cy="665280"/>
          </a:xfrm>
        </p:grpSpPr>
        <p:grpSp>
          <p:nvGrpSpPr>
            <p:cNvPr id="524" name="Group 37"/>
            <p:cNvGrpSpPr/>
            <p:nvPr/>
          </p:nvGrpSpPr>
          <p:grpSpPr>
            <a:xfrm>
              <a:off x="395280" y="4203720"/>
              <a:ext cx="761400" cy="665280"/>
              <a:chOff x="395280" y="4203720"/>
              <a:chExt cx="761400" cy="665280"/>
            </a:xfrm>
          </p:grpSpPr>
          <p:sp>
            <p:nvSpPr>
              <p:cNvPr id="525"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7"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8"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9"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0"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31" name="Group 44"/>
          <p:cNvGrpSpPr/>
          <p:nvPr/>
        </p:nvGrpSpPr>
        <p:grpSpPr>
          <a:xfrm>
            <a:off x="395280" y="4995720"/>
            <a:ext cx="2879640" cy="665280"/>
            <a:chOff x="395280" y="4995720"/>
            <a:chExt cx="2879640" cy="665280"/>
          </a:xfrm>
        </p:grpSpPr>
        <p:grpSp>
          <p:nvGrpSpPr>
            <p:cNvPr id="532" name="Group 45"/>
            <p:cNvGrpSpPr/>
            <p:nvPr/>
          </p:nvGrpSpPr>
          <p:grpSpPr>
            <a:xfrm>
              <a:off x="395280" y="4995720"/>
              <a:ext cx="761400" cy="665280"/>
              <a:chOff x="395280" y="4995720"/>
              <a:chExt cx="761400" cy="665280"/>
            </a:xfrm>
          </p:grpSpPr>
          <p:sp>
            <p:nvSpPr>
              <p:cNvPr id="533"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4"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5"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36"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37"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8"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9" name="AutoShape 53"/>
          <p:cNvSpPr/>
          <p:nvPr/>
        </p:nvSpPr>
        <p:spPr>
          <a:xfrm>
            <a:off x="3635280" y="4437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0"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541"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542" name="Group 44"/>
          <p:cNvGrpSpPr/>
          <p:nvPr/>
        </p:nvGrpSpPr>
        <p:grpSpPr>
          <a:xfrm>
            <a:off x="395280" y="5788080"/>
            <a:ext cx="2879640" cy="665280"/>
            <a:chOff x="395280" y="5788080"/>
            <a:chExt cx="2879640" cy="665280"/>
          </a:xfrm>
        </p:grpSpPr>
        <p:grpSp>
          <p:nvGrpSpPr>
            <p:cNvPr id="543" name="Group 45"/>
            <p:cNvGrpSpPr/>
            <p:nvPr/>
          </p:nvGrpSpPr>
          <p:grpSpPr>
            <a:xfrm>
              <a:off x="395280" y="5788080"/>
              <a:ext cx="761400" cy="665280"/>
              <a:chOff x="395280" y="5788080"/>
              <a:chExt cx="761400" cy="665280"/>
            </a:xfrm>
          </p:grpSpPr>
          <p:sp>
            <p:nvSpPr>
              <p:cNvPr id="544"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5"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6"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47"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48"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49"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550" name="圆角矩形 54"/>
          <p:cNvSpPr/>
          <p:nvPr/>
        </p:nvSpPr>
        <p:spPr>
          <a:xfrm>
            <a:off x="4214880" y="3444840"/>
            <a:ext cx="4678200" cy="2432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为患者进行肠内、或肠外营养时，应持续、匀速输注营养液，避免血糖波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调整营养液速度时，胰岛素的泵入速度也应进行相应调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128B-4D9B-42C8-A8D3-48A490B5980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553" name="Group 4"/>
          <p:cNvGrpSpPr/>
          <p:nvPr/>
        </p:nvGrpSpPr>
        <p:grpSpPr>
          <a:xfrm>
            <a:off x="395280" y="1035000"/>
            <a:ext cx="2879640" cy="665280"/>
            <a:chOff x="395280" y="1035000"/>
            <a:chExt cx="2879640" cy="665280"/>
          </a:xfrm>
        </p:grpSpPr>
        <p:grpSp>
          <p:nvGrpSpPr>
            <p:cNvPr id="554" name="Group 5"/>
            <p:cNvGrpSpPr/>
            <p:nvPr/>
          </p:nvGrpSpPr>
          <p:grpSpPr>
            <a:xfrm>
              <a:off x="395280" y="1035000"/>
              <a:ext cx="761400" cy="665280"/>
              <a:chOff x="395280" y="1035000"/>
              <a:chExt cx="761400" cy="665280"/>
            </a:xfrm>
          </p:grpSpPr>
          <p:sp>
            <p:nvSpPr>
              <p:cNvPr id="555"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6"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7"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58"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59"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56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1" name="Group 12"/>
          <p:cNvGrpSpPr/>
          <p:nvPr/>
        </p:nvGrpSpPr>
        <p:grpSpPr>
          <a:xfrm>
            <a:off x="395280" y="1827360"/>
            <a:ext cx="2879640" cy="664920"/>
            <a:chOff x="395280" y="1827360"/>
            <a:chExt cx="2879640" cy="664920"/>
          </a:xfrm>
        </p:grpSpPr>
        <p:grpSp>
          <p:nvGrpSpPr>
            <p:cNvPr id="562" name="Group 13"/>
            <p:cNvGrpSpPr/>
            <p:nvPr/>
          </p:nvGrpSpPr>
          <p:grpSpPr>
            <a:xfrm>
              <a:off x="395280" y="1827360"/>
              <a:ext cx="761400" cy="664920"/>
              <a:chOff x="395280" y="1827360"/>
              <a:chExt cx="761400" cy="664920"/>
            </a:xfrm>
          </p:grpSpPr>
          <p:sp>
            <p:nvSpPr>
              <p:cNvPr id="56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6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6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6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69" name="Group 20"/>
          <p:cNvGrpSpPr/>
          <p:nvPr/>
        </p:nvGrpSpPr>
        <p:grpSpPr>
          <a:xfrm>
            <a:off x="395280" y="2619360"/>
            <a:ext cx="3225240" cy="665280"/>
            <a:chOff x="395280" y="2619360"/>
            <a:chExt cx="3225240" cy="665280"/>
          </a:xfrm>
        </p:grpSpPr>
        <p:grpSp>
          <p:nvGrpSpPr>
            <p:cNvPr id="570" name="Group 21"/>
            <p:cNvGrpSpPr/>
            <p:nvPr/>
          </p:nvGrpSpPr>
          <p:grpSpPr>
            <a:xfrm>
              <a:off x="395280" y="2619360"/>
              <a:ext cx="761400" cy="665280"/>
              <a:chOff x="395280" y="2619360"/>
              <a:chExt cx="761400" cy="665280"/>
            </a:xfrm>
          </p:grpSpPr>
          <p:sp>
            <p:nvSpPr>
              <p:cNvPr id="571"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2"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3"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74"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75"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76"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77" name="Group 28"/>
          <p:cNvGrpSpPr/>
          <p:nvPr/>
        </p:nvGrpSpPr>
        <p:grpSpPr>
          <a:xfrm>
            <a:off x="395280" y="3411360"/>
            <a:ext cx="2879640" cy="665280"/>
            <a:chOff x="395280" y="3411360"/>
            <a:chExt cx="2879640" cy="665280"/>
          </a:xfrm>
        </p:grpSpPr>
        <p:grpSp>
          <p:nvGrpSpPr>
            <p:cNvPr id="578" name="Group 29"/>
            <p:cNvGrpSpPr/>
            <p:nvPr/>
          </p:nvGrpSpPr>
          <p:grpSpPr>
            <a:xfrm>
              <a:off x="395280" y="3411360"/>
              <a:ext cx="761400" cy="665280"/>
              <a:chOff x="395280" y="3411360"/>
              <a:chExt cx="761400" cy="665280"/>
            </a:xfrm>
          </p:grpSpPr>
          <p:sp>
            <p:nvSpPr>
              <p:cNvPr id="57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8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8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85" name="Group 36"/>
          <p:cNvGrpSpPr/>
          <p:nvPr/>
        </p:nvGrpSpPr>
        <p:grpSpPr>
          <a:xfrm>
            <a:off x="395280" y="4203720"/>
            <a:ext cx="2879640" cy="665280"/>
            <a:chOff x="395280" y="4203720"/>
            <a:chExt cx="2879640" cy="665280"/>
          </a:xfrm>
        </p:grpSpPr>
        <p:grpSp>
          <p:nvGrpSpPr>
            <p:cNvPr id="586" name="Group 37"/>
            <p:cNvGrpSpPr/>
            <p:nvPr/>
          </p:nvGrpSpPr>
          <p:grpSpPr>
            <a:xfrm>
              <a:off x="395280" y="4203720"/>
              <a:ext cx="761400" cy="665280"/>
              <a:chOff x="395280" y="4203720"/>
              <a:chExt cx="761400" cy="665280"/>
            </a:xfrm>
          </p:grpSpPr>
          <p:sp>
            <p:nvSpPr>
              <p:cNvPr id="58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93" name="Group 44"/>
          <p:cNvGrpSpPr/>
          <p:nvPr/>
        </p:nvGrpSpPr>
        <p:grpSpPr>
          <a:xfrm>
            <a:off x="395280" y="4995720"/>
            <a:ext cx="2879640" cy="665280"/>
            <a:chOff x="395280" y="4995720"/>
            <a:chExt cx="2879640" cy="665280"/>
          </a:xfrm>
        </p:grpSpPr>
        <p:grpSp>
          <p:nvGrpSpPr>
            <p:cNvPr id="594" name="Group 45"/>
            <p:cNvGrpSpPr/>
            <p:nvPr/>
          </p:nvGrpSpPr>
          <p:grpSpPr>
            <a:xfrm>
              <a:off x="395280" y="4995720"/>
              <a:ext cx="761400" cy="665280"/>
              <a:chOff x="395280" y="4995720"/>
              <a:chExt cx="761400" cy="665280"/>
            </a:xfrm>
          </p:grpSpPr>
          <p:sp>
            <p:nvSpPr>
              <p:cNvPr id="59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1" name="AutoShape 53"/>
          <p:cNvSpPr/>
          <p:nvPr/>
        </p:nvSpPr>
        <p:spPr>
          <a:xfrm>
            <a:off x="298764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2"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03"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04" name="Group 44"/>
          <p:cNvGrpSpPr/>
          <p:nvPr/>
        </p:nvGrpSpPr>
        <p:grpSpPr>
          <a:xfrm>
            <a:off x="395280" y="5788080"/>
            <a:ext cx="2879640" cy="665280"/>
            <a:chOff x="395280" y="5788080"/>
            <a:chExt cx="2879640" cy="665280"/>
          </a:xfrm>
        </p:grpSpPr>
        <p:grpSp>
          <p:nvGrpSpPr>
            <p:cNvPr id="605" name="Group 45"/>
            <p:cNvGrpSpPr/>
            <p:nvPr/>
          </p:nvGrpSpPr>
          <p:grpSpPr>
            <a:xfrm>
              <a:off x="395280" y="5788080"/>
              <a:ext cx="761400" cy="665280"/>
              <a:chOff x="395280" y="5788080"/>
              <a:chExt cx="761400" cy="665280"/>
            </a:xfrm>
          </p:grpSpPr>
          <p:sp>
            <p:nvSpPr>
              <p:cNvPr id="606"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7"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8"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09"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10"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11"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12" name="圆角矩形 54"/>
          <p:cNvSpPr/>
          <p:nvPr/>
        </p:nvSpPr>
        <p:spPr>
          <a:xfrm>
            <a:off x="4211640" y="4597560"/>
            <a:ext cx="4678200" cy="171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应做好鼻饲护理、口腔护理、气道管理、伤口护理、留置导尿管护理、皮肤护理等基础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4E22C-2293-48F6-AC75-CA116C1DB60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15" name="Group 4"/>
          <p:cNvGrpSpPr/>
          <p:nvPr/>
        </p:nvGrpSpPr>
        <p:grpSpPr>
          <a:xfrm>
            <a:off x="395280" y="1035000"/>
            <a:ext cx="2879640" cy="665280"/>
            <a:chOff x="395280" y="1035000"/>
            <a:chExt cx="2879640" cy="665280"/>
          </a:xfrm>
        </p:grpSpPr>
        <p:grpSp>
          <p:nvGrpSpPr>
            <p:cNvPr id="616" name="Group 5"/>
            <p:cNvGrpSpPr/>
            <p:nvPr/>
          </p:nvGrpSpPr>
          <p:grpSpPr>
            <a:xfrm>
              <a:off x="395280" y="1035000"/>
              <a:ext cx="761400" cy="665280"/>
              <a:chOff x="395280" y="1035000"/>
              <a:chExt cx="761400" cy="665280"/>
            </a:xfrm>
          </p:grpSpPr>
          <p:sp>
            <p:nvSpPr>
              <p:cNvPr id="61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2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62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395280" y="1827360"/>
            <a:ext cx="2879640" cy="664920"/>
            <a:chOff x="395280" y="1827360"/>
            <a:chExt cx="2879640" cy="664920"/>
          </a:xfrm>
        </p:grpSpPr>
        <p:grpSp>
          <p:nvGrpSpPr>
            <p:cNvPr id="624" name="Group 13"/>
            <p:cNvGrpSpPr/>
            <p:nvPr/>
          </p:nvGrpSpPr>
          <p:grpSpPr>
            <a:xfrm>
              <a:off x="395280" y="1827360"/>
              <a:ext cx="761400" cy="664920"/>
              <a:chOff x="395280" y="1827360"/>
              <a:chExt cx="761400" cy="664920"/>
            </a:xfrm>
          </p:grpSpPr>
          <p:sp>
            <p:nvSpPr>
              <p:cNvPr id="62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62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63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395280" y="2619360"/>
            <a:ext cx="3225240" cy="665280"/>
            <a:chOff x="395280" y="2619360"/>
            <a:chExt cx="3225240" cy="665280"/>
          </a:xfrm>
        </p:grpSpPr>
        <p:grpSp>
          <p:nvGrpSpPr>
            <p:cNvPr id="632" name="Group 21"/>
            <p:cNvGrpSpPr/>
            <p:nvPr/>
          </p:nvGrpSpPr>
          <p:grpSpPr>
            <a:xfrm>
              <a:off x="395280" y="2619360"/>
              <a:ext cx="761400" cy="665280"/>
              <a:chOff x="395280" y="2619360"/>
              <a:chExt cx="761400" cy="665280"/>
            </a:xfrm>
          </p:grpSpPr>
          <p:sp>
            <p:nvSpPr>
              <p:cNvPr id="63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3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3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63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395280" y="3411360"/>
            <a:ext cx="2879640" cy="665280"/>
            <a:chOff x="395280" y="3411360"/>
            <a:chExt cx="2879640" cy="665280"/>
          </a:xfrm>
        </p:grpSpPr>
        <p:grpSp>
          <p:nvGrpSpPr>
            <p:cNvPr id="640" name="Group 29"/>
            <p:cNvGrpSpPr/>
            <p:nvPr/>
          </p:nvGrpSpPr>
          <p:grpSpPr>
            <a:xfrm>
              <a:off x="395280" y="3411360"/>
              <a:ext cx="761400" cy="665280"/>
              <a:chOff x="395280" y="3411360"/>
              <a:chExt cx="761400" cy="665280"/>
            </a:xfrm>
          </p:grpSpPr>
          <p:sp>
            <p:nvSpPr>
              <p:cNvPr id="64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4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4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395280" y="4203720"/>
            <a:ext cx="2879640" cy="665280"/>
            <a:chOff x="395280" y="4203720"/>
            <a:chExt cx="2879640" cy="665280"/>
          </a:xfrm>
        </p:grpSpPr>
        <p:grpSp>
          <p:nvGrpSpPr>
            <p:cNvPr id="648" name="Group 37"/>
            <p:cNvGrpSpPr/>
            <p:nvPr/>
          </p:nvGrpSpPr>
          <p:grpSpPr>
            <a:xfrm>
              <a:off x="395280" y="4203720"/>
              <a:ext cx="761400" cy="665280"/>
              <a:chOff x="395280" y="4203720"/>
              <a:chExt cx="761400" cy="665280"/>
            </a:xfrm>
          </p:grpSpPr>
          <p:sp>
            <p:nvSpPr>
              <p:cNvPr id="64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5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5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55" name="Group 44"/>
          <p:cNvGrpSpPr/>
          <p:nvPr/>
        </p:nvGrpSpPr>
        <p:grpSpPr>
          <a:xfrm>
            <a:off x="395280" y="4995720"/>
            <a:ext cx="2879640" cy="665280"/>
            <a:chOff x="395280" y="4995720"/>
            <a:chExt cx="2879640" cy="665280"/>
          </a:xfrm>
        </p:grpSpPr>
        <p:grpSp>
          <p:nvGrpSpPr>
            <p:cNvPr id="656" name="Group 45"/>
            <p:cNvGrpSpPr/>
            <p:nvPr/>
          </p:nvGrpSpPr>
          <p:grpSpPr>
            <a:xfrm>
              <a:off x="395280" y="4995720"/>
              <a:ext cx="761400" cy="665280"/>
              <a:chOff x="395280" y="4995720"/>
              <a:chExt cx="761400" cy="665280"/>
            </a:xfrm>
          </p:grpSpPr>
          <p:sp>
            <p:nvSpPr>
              <p:cNvPr id="65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6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6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6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63" name="AutoShape 53"/>
          <p:cNvSpPr/>
          <p:nvPr/>
        </p:nvSpPr>
        <p:spPr>
          <a:xfrm>
            <a:off x="2987640" y="6093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6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66" name="Group 44"/>
          <p:cNvGrpSpPr/>
          <p:nvPr/>
        </p:nvGrpSpPr>
        <p:grpSpPr>
          <a:xfrm>
            <a:off x="395280" y="5788080"/>
            <a:ext cx="2879640" cy="665280"/>
            <a:chOff x="395280" y="5788080"/>
            <a:chExt cx="2879640" cy="665280"/>
          </a:xfrm>
        </p:grpSpPr>
        <p:grpSp>
          <p:nvGrpSpPr>
            <p:cNvPr id="667" name="Group 45"/>
            <p:cNvGrpSpPr/>
            <p:nvPr/>
          </p:nvGrpSpPr>
          <p:grpSpPr>
            <a:xfrm>
              <a:off x="395280" y="5788080"/>
              <a:ext cx="761400" cy="665280"/>
              <a:chOff x="395280" y="5788080"/>
              <a:chExt cx="761400" cy="665280"/>
            </a:xfrm>
          </p:grpSpPr>
          <p:sp>
            <p:nvSpPr>
              <p:cNvPr id="66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7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7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7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74" name="圆角矩形 54"/>
          <p:cNvSpPr/>
          <p:nvPr/>
        </p:nvSpPr>
        <p:spPr>
          <a:xfrm>
            <a:off x="4214880" y="1357200"/>
            <a:ext cx="4678200" cy="5096160"/>
          </a:xfrm>
          <a:custGeom>
            <a:avLst/>
            <a:gdLst>
              <a:gd name="textAreaLeft" fmla="*/ 228240 w 4678200"/>
              <a:gd name="textAreaRight" fmla="*/ 4449960 w 4678200"/>
              <a:gd name="textAreaTop" fmla="*/ 228240 h 5096160"/>
              <a:gd name="textAreaBottom" fmla="*/ 4867920 h 5096160"/>
            </a:gdLst>
            <a:ahLst/>
            <a:rect l="textAreaLeft" t="textAreaTop" r="textAreaRight" b="textAreaBottom"/>
            <a:pathLst>
              <a:path w="21600" h="23530">
                <a:moveTo>
                  <a:pt x="3600" y="0"/>
                </a:moveTo>
                <a:arcTo wR="3600" hR="3600" stAng="16200000" swAng="-5400000"/>
                <a:lnTo>
                  <a:pt x="0" y="19930"/>
                </a:lnTo>
                <a:arcTo wR="3600" hR="3600" stAng="10800000" swAng="-5400000"/>
                <a:lnTo>
                  <a:pt x="18000" y="2353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多有焦虑、恐惧等情绪。护士应主动沟通安慰，耐心与患者交流以取得其信任和配合。</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在治疗护理过程中随时进行解释，克服患者因知识缺乏导致的焦虑。</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还应注意评估患者的压力源及对疾病的应对情况，为患者和家属提供心理社会支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676"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677"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7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此患者基础危重症为车祸重创及针对车祸修复的大手术</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既往无糖尿病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2"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者生命体征，如体温、脉搏、呼吸、血压、意识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开腹探查术后情况，包括疼痛、伤口状况、引流物情况、排便情况、并发症及康复知识掌握情况等</a:t>
            </a:r>
            <a:endParaRPr b="0" lang="en-US" sz="2200" spc="-1" strike="noStrike">
              <a:solidFill>
                <a:srgbClr val="046ca6"/>
              </a:solidFill>
              <a:latin typeface="Arial"/>
            </a:endParaRPr>
          </a:p>
        </p:txBody>
      </p:sp>
      <p:sp>
        <p:nvSpPr>
          <p:cNvPr id="6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5"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糖、尿糖、血常规和血生化结果</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的心理反应及对本病病因、治疗和护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家庭的经济状况及家庭沟通状况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应激性高血糖</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患者既往无糖尿病史，在车祸创伤大手术后出现随机血糖增高，分别为</a:t>
            </a:r>
            <a:r>
              <a:rPr b="0" lang="en-US" sz="2400" spc="-1" strike="noStrike">
                <a:solidFill>
                  <a:srgbClr val="046ca6"/>
                </a:solidFill>
                <a:latin typeface="Arial"/>
                <a:ea typeface="宋体"/>
              </a:rPr>
              <a:t>12.6mmol/L</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14.5mmol/L</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者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糖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体液不足的危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焦虑</a:t>
            </a:r>
            <a:endParaRPr b="0" lang="en-US" sz="2400" spc="-1" strike="noStrike">
              <a:solidFill>
                <a:srgbClr val="046ca6"/>
              </a:solidFill>
              <a:latin typeface="Arial"/>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6A340-4AE7-478A-8A7C-54494B08800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91">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69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69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69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6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身体外形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生殖发育及性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进食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排泄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疲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高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神经、精神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八）其他</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7E448-6E21-444F-A6BE-00C26325B5A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血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低血糖发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胰岛素强化治疗的配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水、电解质平衡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支持护理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基础护理和心理护理</a:t>
            </a:r>
            <a:endParaRPr b="0" lang="en-US" sz="2400" spc="-1" strike="noStrike">
              <a:solidFill>
                <a:srgbClr val="046ca6"/>
              </a:solidFill>
              <a:latin typeface="Arial"/>
            </a:endParaRPr>
          </a:p>
        </p:txBody>
      </p:sp>
      <p:sp>
        <p:nvSpPr>
          <p:cNvPr id="6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身体外形的改变</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生长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营养异常：肥胖，消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象改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BCEF-82C5-4F39-8B2B-309B5D43C41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生殖发育及性功能异常</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下丘脑、垂体病变或性腺（睾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卵巢）病变致体内性激素异常，可导致性发育障碍或性功能异常。</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39C70-63F7-46E0-9156-B330365D7D0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食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种内分泌疾病可导致患者食欲亢进或减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食欲亢进、体重显著减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患者烦渴多饮、多食善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减低和艾迪生（</a:t>
            </a:r>
            <a:r>
              <a:rPr b="1" lang="en-US" sz="2800" spc="-1" strike="noStrike">
                <a:solidFill>
                  <a:srgbClr val="000000"/>
                </a:solidFill>
                <a:latin typeface="宋体"/>
                <a:ea typeface="宋体"/>
              </a:rPr>
              <a:t>Addison</a:t>
            </a:r>
            <a:r>
              <a:rPr b="1" lang="zh-CN" sz="2800" spc="-1" strike="noStrike">
                <a:solidFill>
                  <a:srgbClr val="000000"/>
                </a:solidFill>
                <a:latin typeface="宋体"/>
                <a:ea typeface="宋体"/>
              </a:rPr>
              <a:t>）病患者食欲减低，消化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EE07C-100C-4ACE-A396-F23596885CE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排泄功能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分泌功能改变可导致排泄异常，如多尿是糖尿病的典型症状，多汗、排便次数增多、大便稀薄可见于甲状腺功能亢进症，便秘可见于甲状腺功能减低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8FADB-AFC5-45AB-9931-BDF1AFC2B61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14:58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